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.png" ContentType="image/png"/>
  <Override PartName="/ppt/media/image2.png" ContentType="image/png"/>
  <Override PartName="/ppt/media/CAMERA.WAV" ContentType="audio/x-wav"/>
  <Override PartName="/ppt/media/image3.png" ContentType="image/png"/>
  <Override PartName="/ppt/media/image4.png" ContentType="image/png"/>
  <Override PartName="/ppt/media/image6.png" ContentType="image/png"/>
  <Override PartName="/ppt/media/image12.jpeg" ContentType="image/jpeg"/>
  <Override PartName="/ppt/media/image13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4D5-0ED7-4926-837B-1C3115EAC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B037-3A46-4931-A131-697DEBF1D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8BD6C-ED04-40A9-A171-DE706D827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60D7-0ADE-4618-A5F6-E47B560DD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66ED-DC40-4346-A545-DF04A6E45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6F9E-6A3D-4D6B-966F-93E4C3F41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2738-76EB-4C4D-B10E-01F95839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FD1B-766E-491A-9514-961D27DE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D1790-5D79-40E0-AC70-09FF4A06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8EEF-F6D8-4823-B34B-DE9D11EC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BDA5A-8941-4BA1-BE56-3892A861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1D32-F5E0-4C0C-A758-E0CB701E1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99560-83EF-4FC5-9791-53EB6CA9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E030-DF11-435C-9D79-6F4DF03E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B11A8-4693-4738-9211-5AD4E591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F8F1-95F5-46C0-8C98-D9DA405A2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219C0-796B-4B1E-B204-5D96030B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911-2D05-4665-A34B-6FE6CD75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1F41-A851-4BA5-BA6F-41AD4444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5312-1140-4F22-AFF7-2A4CE9E84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61F6-AB43-41B2-AA18-0CE98F7A6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E63E-C545-4EB4-9CA0-463C4EFD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9C82-7266-478C-8C4F-F808D662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1354-CD2A-4B31-B527-CC6C99F1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FBBE-FEF8-41E7-8878-E09DF3AE6DC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A305-3CDC-4A46-97B8-64175F05757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5th Grade French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WordArt 10"/>
          <p:cNvSpPr txBox="1"/>
          <p:nvPr/>
        </p:nvSpPr>
        <p:spPr>
          <a:xfrm>
            <a:off x="3505320" y="2362320"/>
            <a:ext cx="5143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6" name="WordArt 12"/>
          <p:cNvSpPr txBox="1"/>
          <p:nvPr/>
        </p:nvSpPr>
        <p:spPr>
          <a:xfrm>
            <a:off x="685800" y="3505320"/>
            <a:ext cx="807732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TextBox 4"/>
          <p:cNvSpPr/>
          <p:nvPr/>
        </p:nvSpPr>
        <p:spPr>
          <a:xfrm>
            <a:off x="1295280" y="3276720"/>
            <a:ext cx="701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Madame Barthenhei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ad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mework: 3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essments 55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cipation &amp; behavior 5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sation 1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2" name="Picture 6" descr="belgique"/>
          <p:cNvPicPr/>
          <p:nvPr/>
        </p:nvPicPr>
        <p:blipFill>
          <a:blip r:embed="rId1"/>
          <a:stretch/>
        </p:blipFill>
        <p:spPr>
          <a:xfrm>
            <a:off x="4495680" y="5410080"/>
            <a:ext cx="1905120" cy="12049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152388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a Belgiqu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the future holds…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th grade French 3 times a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grade French every day of the week and counted as a regular academ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5" descr="quebec"/>
          <p:cNvPicPr/>
          <p:nvPr/>
        </p:nvPicPr>
        <p:blipFill>
          <a:blip r:embed="rId1"/>
          <a:stretch/>
        </p:blipFill>
        <p:spPr>
          <a:xfrm>
            <a:off x="1752480" y="4114800"/>
            <a:ext cx="3143520" cy="20574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5486400" y="4572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 Québec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1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6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ravel opportuni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ddle School tra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hange opportunities in the Upper Sch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5" descr="Maroc"/>
          <p:cNvPicPr/>
          <p:nvPr/>
        </p:nvPicPr>
        <p:blipFill>
          <a:blip r:embed="rId1"/>
          <a:stretch/>
        </p:blipFill>
        <p:spPr>
          <a:xfrm>
            <a:off x="4191120" y="3657600"/>
            <a:ext cx="2568600" cy="28195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1447920" y="46483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Le Maroc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3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8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you can do…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view/drill student at ho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courage your child to use the on-line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eck homework &amp; bin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unicate with your ch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act me with any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split dir="in" orient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2209680" y="2057400"/>
            <a:ext cx="474372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erci à tous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terial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iscovering French Nouveau, </a:t>
            </a:r>
            <a:r>
              <a:rPr b="0" lang="en-US" sz="3200" spc="-1" strike="noStrike" u="sng">
                <a:solidFill>
                  <a:srgbClr val="0000cc"/>
                </a:solidFill>
                <a:uFillTx/>
                <a:latin typeface="Times New Roman"/>
              </a:rPr>
              <a:t>Bleu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orkboo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-Home Tutor CD-Ro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0" name="Picture 5" descr="bleu"/>
          <p:cNvPicPr/>
          <p:nvPr/>
        </p:nvPicPr>
        <p:blipFill>
          <a:blip r:embed="rId1"/>
          <a:stretch/>
        </p:blipFill>
        <p:spPr>
          <a:xfrm>
            <a:off x="6359400" y="3276720"/>
            <a:ext cx="1987560" cy="274320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775400" cy="3581640"/>
          </a:xfrm>
          <a:prstGeom prst="rect">
            <a:avLst/>
          </a:prstGeom>
          <a:ln w="0">
            <a:noFill/>
          </a:ln>
        </p:spPr>
      </p:pic>
      <p:sp>
        <p:nvSpPr>
          <p:cNvPr id="92" name="TextBox 2"/>
          <p:cNvSpPr/>
          <p:nvPr/>
        </p:nvSpPr>
        <p:spPr>
          <a:xfrm>
            <a:off x="1219320" y="7621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he Por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ttp://www.classzone.com/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2057400" y="220968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842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n On-line Textboo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57200" y="188280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5638680" cy="422928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1523880" y="6858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ww.usmfrench.wikispace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172200" cy="462924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1219320" y="6094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ww.wordreferenc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mpha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ing oral fl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grammar stru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how to study a foreign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ime management and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ring to study French as an academic subject in seventh 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4" descr="pontgard"/>
          <p:cNvPicPr/>
          <p:nvPr/>
        </p:nvPicPr>
        <p:blipFill>
          <a:blip r:embed="rId1"/>
          <a:stretch/>
        </p:blipFill>
        <p:spPr>
          <a:xfrm>
            <a:off x="6172200" y="4876920"/>
            <a:ext cx="2367000" cy="16002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3809880" y="56386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Franc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asses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ening, speaking, reading &amp; wri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lture: videos &amp; song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chnology based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Picture 6" descr="martinique"/>
          <p:cNvPicPr/>
          <p:nvPr/>
        </p:nvPicPr>
        <p:blipFill>
          <a:blip r:embed="rId1"/>
          <a:stretch/>
        </p:blipFill>
        <p:spPr>
          <a:xfrm>
            <a:off x="838080" y="3733920"/>
            <a:ext cx="3981600" cy="2508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7"/>
          <p:cNvSpPr/>
          <p:nvPr/>
        </p:nvSpPr>
        <p:spPr>
          <a:xfrm>
            <a:off x="5486400" y="4419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a Martiniqu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5T16:22:10Z</dcterms:created>
  <dc:creator>Computer Services</dc:creator>
  <dc:description/>
  <dc:language>en-US</dc:language>
  <cp:lastModifiedBy>Admin</cp:lastModifiedBy>
  <cp:lastPrinted>1999-09-16T22:16:46Z</cp:lastPrinted>
  <dcterms:modified xsi:type="dcterms:W3CDTF">2009-09-02T18:33:21Z</dcterms:modified>
  <cp:revision>114</cp:revision>
  <dc:subject/>
  <dc:title>8th Grade French</dc:title>
</cp:coreProperties>
</file>